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764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κεφαλίδα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dt" idx="66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ημερομηνία/ώρα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ftr" idx="67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υποσέλιδο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 type="sldNum" idx="68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B05D-BFCF-4C0F-9C80-40BB58AD260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B8AD-1B75-402F-8E07-E2939A104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DFB8-48F6-4D5A-A358-E82D3BEFF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E6D6-C1BC-40D3-934C-B903F2B6F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25EF-8D86-4445-B1DE-852983A94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BCAB-6B08-4A93-A9C5-F1ADCB964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A444-E450-450B-9E0A-DEE27038B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6909-2904-4C02-BC31-F03BB51FC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3015-C305-4E1B-ADEF-F3E15D0EB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88D6-FB83-414E-BBCF-9BBACA263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907B-C896-4A7A-BCE9-E89BCAC1E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7DAA-C1DE-40EA-8ADD-FBC794DF2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1C92-98CC-40B2-8321-3A0B78378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FE1D-0A3B-4A07-92A1-C4A4E5408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742A4-AD9C-46F5-9D6B-384B1971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43D3E-DDA5-4796-B280-2C09DB99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9D06D-595A-4149-88F8-9C8DE5BE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38B5F-3FB2-4D97-9049-9E8E78EE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2D8E0C-9017-42EB-B4D3-7689E064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F2D4A-81B4-4742-89DC-7B13A200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12B62-142B-461D-99E8-9E609424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91AAD-6773-4518-A7AF-3BC679F6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358D2-AAD4-484C-87A9-8F56FAFE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3831F-241F-4F8C-A0D4-0742A324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B7A5F-DEA9-4537-A850-7FF48C3C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4BCBFA-7E2B-400B-98DE-34D37D63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6634-B67F-4C00-997F-FB9E7097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C2454-CF84-45AE-936C-27933810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18375-8FA9-4EC9-8984-1D6A51DA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E779D5-04AA-4603-8972-42A0F4B0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2C6132-9F09-42E6-8E5E-06F609E5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45AD7B-16F1-4A8D-AA2B-3F4AFFEC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8D8E4E-3F71-4114-8E24-5B0CBA21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1A8484-32B6-4265-B304-0DAA8859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FDD00-434B-47FD-88D1-313120F8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E3DB5-CE9F-4BA1-A1E2-B1241966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C5224D-B4DD-439B-BCCF-B04A29D2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48050-43AC-4AB1-921A-F3C3726E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9F241-6209-406C-BFD9-12B7F268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32E539-210F-4BC6-8434-BCEF9196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9579B2-89D1-4498-93FB-289258C4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5DA979-8FD5-40F0-8E65-F6286EBC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C86AE1-B312-4B37-840C-46051A65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37B11E-7F64-4CFD-AFF0-607BB567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E248F5-4E49-4578-B577-5A3DFC7F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0B095C-FA75-4779-8C55-063D3D75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51CBE0-B700-44FF-9879-6EF8FF0E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664D3B-9285-4EAC-A051-A9C425D0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44ED7-784B-4B82-A08B-FF64C4A2A5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E5EA0F-35E4-4AC3-908F-DDE3E138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F2FADB-9B42-4033-8430-946FEC30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BBC9DE-E574-4BEB-A122-3486C6C0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BB2030-2D00-43DB-A17B-5B12F50E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EDEC25-1DD0-40F9-8263-F03BBC7B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0E70FF-E962-41F1-AF24-6AEDA49B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4104B9-6FCE-43E1-8D30-170B0EFE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72F3A2-8F3F-4686-94EA-85AB7F1C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7AECA-A278-4B75-9299-04D9E790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A640F5-F04E-40CC-8A69-66CAC1FF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BED1F-02BB-48AA-B39E-B1CF8D79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D7D3F-B719-4348-BBAB-8EAB4292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47D71-55DD-48E6-9B37-87F8CDE8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03293C-9C53-4FBC-B70B-D94FC834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4E105-3442-48F8-96EF-8433EE24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E613E-F0BD-4494-9891-0F0324CE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410574-396F-4CB4-83D0-341779C7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C35CF9-53A9-4A82-90EE-70086B7D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19FD39-998B-4E97-8248-545CDF2B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2918D38-5DE2-4E19-ABEA-E88E9E6D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A00AD1D-57F2-462A-BD91-EB70F948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42CD0-D61E-4B94-A204-B155627E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4376E3-54D6-41D3-8287-525D8BFC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87E79D7-973C-4F69-953C-09F358E7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67B3C85-41F5-4400-9D15-5FB1D88A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145E59-2760-4773-B655-832F7E2D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8A1570-DFD9-4F0A-9F88-1721A4BF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22B09B-8976-4478-885B-65252462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5643022-7870-42C5-9F0D-EDF51BA0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9BB9592-5402-47B6-A0F0-8EDC5513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4E4B3C-7FBD-44A8-B6EC-3796AD01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79BFCBE-E869-49DE-A43C-FC26F62C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15DB4-999D-4A1E-8BBE-DA579921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CF6E58F-1BDE-4CF2-8EFA-F44F5D44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7A73ED3-9240-4C5F-99D1-852566C8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576AA65-0048-485F-9E17-4C7E0FC0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17A3375-29DA-4DB0-B5AF-7411B6F6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1860F16-F45B-4199-A92F-E8E24602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B69628A-944E-4240-8C2B-CDF0DA3A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02D557-42E9-4018-AC35-A5222FEE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E885D19-3C7F-4126-BACD-057609F7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7EA0BF7-A173-49E1-B0F6-1B58F1BA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8F5D52-D15B-4DE0-BEE9-C670EA088A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05221-67E4-4D54-BC09-3224709D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F46AD-8D2B-47C6-B7A4-35F8BD64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09D273-E73C-4C78-88CE-9FDBA5BA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D272B7-BD98-43A3-B831-BE08C6CA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01E27-8C86-49EB-9E3F-8AFB5AB9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F3F48C-1D4F-471E-B5FE-AF07AC64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1864F0-797F-41D6-92F4-63D9E566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21F809-45D0-4658-9130-721B606B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14EB9D-481F-4E13-A64A-EEF6723F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88EEA-0F9C-44EB-9AA8-91A3D208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9B20FC-814A-4360-AEA1-3DDE3258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FF285-4283-4ABE-B8D2-52C8C248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B7C46-09D1-4C28-94D0-7B6A3DC527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3F2DD5-B7D8-443C-843F-48C739CB47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80DF95-60DE-4766-A4A9-6A6EF320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1EF191-756F-46E5-A060-87ABE749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59386B-9673-460F-8C85-FC16C44A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90264C-0D46-416B-BFD0-33CD01EA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758E3D-B35A-4065-BCEC-5FAEF905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E64185-81AA-49EA-846D-717ABAE7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22DD00-C2DF-485B-896C-EBE83C85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309780-FA3F-4641-8368-67DD8575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F86B4-907D-44DF-8C02-5676F658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D9CFB6-2E05-43DB-807C-91CFECFB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F6CF16-BE52-4209-8852-2E70889B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018A46-8110-44C3-AA58-1F257911BF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CD9D697-33DF-4625-A814-256A62C59A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5AB3936-EA3D-418F-A5DC-2284F414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12BE7A3-C378-4AFE-96CF-A591CD9C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62B7D39-B431-49E4-A674-3DCD2D2A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BE95D38-028E-4C50-AD4E-882E37AE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13868C9-B690-420E-9BF8-77EBDD90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7794664-9D34-4A22-935D-A8264C3D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CF87-2BE9-45F1-A8E3-8061837F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2454A-B679-4AEF-906F-F92B2055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7D48E2E-7A8E-4A76-BEF5-A34FE0C7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B6C59CD-3CC0-4CD2-90DC-883F506B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F55F28-3643-48C8-B2A4-961B7734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0E05633-FC3C-41EC-8DD9-8FCB63A9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5D8BBE3-96E4-4001-B214-7110107874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8677FB-7EEE-4FBD-AB33-F3DC58B659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373BCC-58A4-4A55-8E3C-9CA72AB8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08567F-CC6C-428A-9363-AF4D50DC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C320BF-8619-45ED-86CB-D2A01C2A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8E6AF2-AE0C-45B5-A8F8-6E0E5ACC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BA56C-140E-4639-9D6B-31948CE7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C4ACEF-02AB-4E3E-8234-3546CDD0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763B5A-D7C6-44F6-893F-DD4AD802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E98F14-7616-4007-A936-77911001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3E09C5-37DD-4108-BED9-A6A7BC83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070456-1D32-46B5-ACF9-F5BCAF18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998080-3E03-4F4E-A845-D7BE85A8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68975E-1062-40A1-B03D-38CCAF7C61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4E58706-E1A7-400E-BFCC-AB5FB3ACB0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8AF691D-5476-4A74-AC08-26483141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EEDD32D-A617-4082-97C9-E60F235A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34B61-01D1-4ABA-9FF6-752D818E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12CB399-555F-41F0-8410-1E361C92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4A47CD6-5CB8-4B06-AEBF-EE636694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9F18AB4-D2CA-4C6B-A7F6-CD1647E7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8CE018C-AAB8-47B4-AF75-01C330D9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1AD2B0-4A35-4581-A46B-FB0E2D4F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261E4D4-2575-4A78-8C0A-011E7C54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64A62C7-201B-4272-863B-F5D463B4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180D83D-B00C-4BB3-9865-90F4C0BA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8346032-E8DD-44E3-958C-3C6492D26C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456AE51-496A-4CFB-9136-53643F4DF1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2461C-1EA7-45C2-B832-AA9BB3EF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1F05A69-9B5F-4193-A3A8-A5F15DB4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71241A6-9584-46D1-8432-ADAEAC1B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CCDA48C-AFA7-4BA3-8B4D-ACD9E2F0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68E52D6-945B-4387-87FF-2E6BC1CE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0BF61DF-F1BE-49C6-B267-C9C802D6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8BF9A2A-2B90-4693-92DD-CFED3358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4261164-2922-42B7-AD7B-80C6464F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B686793-5CDC-4A8E-8166-B9E350E7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A09AC5F-63D8-447E-A692-E5B36AE9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A2E25A9-072A-4C13-AE2E-0A582C24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2945D-6515-48C6-9D4B-14C8A477A6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B8745E-5141-4E08-922A-82E65996E4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B4A60F-ABB2-4999-BEA3-0255138468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8E6EFB-A1CA-4EF5-B4BB-8F6F062E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72C7C5-4F8C-4E7B-86BB-28B9D20D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2232B8-3583-43C7-A731-5C560A45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856951-EA15-40F3-8B28-FC1EFCC8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C13DE4-F0B8-42C1-80BC-24AE3567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834217-A738-4662-8D6A-E0A17192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DCE5BD-C683-4C45-94C5-0AE12A14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BA5286-28A4-4D79-BAA5-1C462020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C82450-9E31-4E24-BF99-8FF19474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92BBFB-40A0-4074-8C90-B8A74530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7F43B4-3022-454B-897A-6CADE665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CE203D-437A-4A83-8BE1-84BD21C6FF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DD897DB-9F47-4EC9-953F-012CEC6592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FC8EC9-E098-4F68-89E0-96454168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530FB59-2A46-4240-A41D-F3673BFE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7738729-917A-4D10-A57D-55AD8AA3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A44E02F-E177-413C-A6B5-74394F92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3B4BD38-B345-4C00-9548-F305CE6A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A510605-A057-4C8F-8C47-94EDDA4A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ABF096-F72C-4352-AEAE-D2F1ADAB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E3D89B8-EF7B-483F-86FB-858CA388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841B6DA-F6F7-4D0A-AA73-5674FBDD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6FDA9D-0F43-4272-B4E2-14747332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EA946F-2331-4820-A979-BA4478C9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425493F-09D2-4334-ADAA-BE72941401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63E671A-3A07-4511-A807-5EA8B16D0D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648C8E5-6D14-4868-B7A1-1EC796A3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56430C0-0113-4F48-8409-6A537F44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312B98B-723B-4C02-9FAE-BE9F3A02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9F7E000-F902-43AF-98A4-32CF06DB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CC71E0-48A1-4E93-9C6F-EC735A3F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7488D0E-73F4-4A3E-9A7D-5B877F8B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20987C6-CCE2-4CDE-93C9-DDDE5D2C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135E19A-5D33-4D82-9CC3-552E1860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F5A7697-F884-49DF-9C39-FDBB0217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8E1E9C7-0C10-4AE1-8E72-CFEC908C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997C0CB-7211-4B4D-BB40-FCCAA1B0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EAE8DCC-C2A7-4133-875B-A9B06442A9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9DD77B-B3D6-4A4A-ADBB-52ED46A8AB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9F500D-9008-4773-9447-E8C7B3EE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D7DAEF-1EBF-4995-83D4-5C1C7422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17C0D5-E331-4FCB-83FF-7B36D600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3D3DE3-5D32-4E7E-BFE1-CA6C253C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5CD399-14CE-4BAF-B033-1433F864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50F1B2-35CF-4307-BA23-1F2E7847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86D140-39D9-4F19-BC25-CE5CA584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A9B198-3A4E-4DBC-A409-887BCB08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4AE104-F279-4CBA-B375-89A08615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B49E90-86C6-44D4-8D8C-1EC4EACE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138159-AC4E-42CB-B77A-A203280D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FC2F92-D79B-4D7E-B098-7BF462A229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C7D675B-5328-46AA-8737-310095FE2E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10C63B-5160-4B92-A099-40B7B5A8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2D7ACDB-F084-4AD0-BD34-588E4E18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3D52103-583E-4E31-A509-6121810F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2D205A9-9D88-4E32-848D-381B2C48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6AA617A-82F6-441F-A4FD-26E83670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34F080C-BD29-4622-9A11-67897977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C106AA3-A31D-4AED-9052-0772E325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83C8F97-FEB2-4FAC-9E70-5A957EB4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2702EBE-B5AE-4C42-B1CA-4113E459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410DB60-7F03-4A59-BE7C-18C7BD8F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E3A0091-A623-4DE3-8B3C-AC116AF3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76B5-0F6D-4DC1-84C9-63C38D2E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A44DE5-302D-4993-ABC4-1744D5C3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C926199-157E-4655-8371-2719F37980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08DF120-9B22-4F79-A20F-9325962624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AFBB0C2-52E6-4876-BE7E-E3AD95EB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B3186E1-B3B9-4F64-9067-54AB3E1B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8A3DA51-6F86-4C03-B3BA-6A5C586E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193D42C-43D3-4754-A291-E0EE9510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5254115-4A4E-4FF3-B8FF-3BAAB13E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872C797-1162-4408-B1E2-3E1A4278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D8DC5E9-548B-4B64-8263-C20BBDB0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C5C8767-70E6-412B-9947-2AA50339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0EDC82-1E1C-4DE7-8EBF-58FBAAA1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9D63F51-03E6-462B-96CD-DF7F96BE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3C8997C-2224-4587-A6BE-105D97CC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62377EB-6955-470D-AD5F-EE25D3E3A0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C4EE01-C747-4C43-B280-0F713F71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8E668D-7A81-4EE3-9A27-E2E5C73A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BF11D6-6B8C-4F7C-8F8A-0936D2E1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4100E2-4773-432A-967B-573E58CF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3EBC92-17AF-44C9-B69E-9B61517D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1217E7-935A-47CB-A689-CF30328B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70D1E2-275A-4CB9-8E66-D6269EF3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EB7512-A85D-471F-9D9A-0EBC87EE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06E74-5E65-43A2-834D-7188E867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C0BB75-C3D4-4615-A595-3CD9F991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58404C-97F3-4AE9-B178-80E176E3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8591DE-EEDA-42D1-B3D9-9BFC5AF9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35EA57-B1D1-42D1-9A38-26B698DF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AA3B3B-5265-4B54-A396-FBA5A5CA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A5F2D0-2922-4BB1-B0CF-752EEF49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D5D01-CC84-4BA9-A256-F2EC4473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0A0839-F9CB-4689-8116-00F75FD4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7C2ACD-2794-4127-BEDE-628C9C72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D864A2-D354-46C1-8B57-BC024F84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F7F2E-947C-4C97-9B7B-7B92C2D3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034FA8-B817-490B-BD60-87C125FE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23E428-8380-4617-A99A-91077791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8757ED-E05E-455A-B076-93E7709D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80C870-7C91-48D2-A809-7EE0E173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E50EC2-CD23-4978-946D-29E1CED5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D8D02B-D102-4017-82C5-809C601D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502172-5ABA-4BD7-8318-4DDDA686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BC5F91-26FA-4D4B-9450-46F555D0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120D23-2B3B-4F35-B2AF-44CF4669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F8DBEF-7A85-42F7-AD48-0E4DBDF2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D5D22-5BC2-4E1F-AC10-D078A3CC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39327B-F08D-4815-98B7-AE97F1B7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C33C33-3BD3-45C6-9D50-C3163234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065FD7-FE09-44C9-A0B8-B0F657C6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5000FC-F015-45A9-ABFE-D5F19854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FA142A-4DF0-4246-889E-02718296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4ECAB3-74B0-4548-A1AB-A965CE31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A2A632-C221-4AE5-900E-3F1747A6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41BD0B-97ED-4340-83D1-4F424FD5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30A98E-B73A-4DBD-9F71-CB321283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464C81-9B16-4635-8683-5D5DB8E6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35CA1-28DE-40E2-A437-9A59C9CE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A0ACC7-31FF-4423-8696-ABEA2D03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4105D5-5E27-4FD1-B3C9-B2500DB7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9F01E8-D1C1-4192-AC18-3C670887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5F38A8-41EA-4B65-B791-EC2343B8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7889BF-F7BB-4E4F-A08B-66F9A05C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99D2D2-894F-49F7-8E75-0D83E333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4042A2-75F3-4CA0-8C05-16B5DF9B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7D5F8A-0DD2-49B3-B2B7-58C34BCA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760EE5-0E97-4BD3-90F7-B53D4A3F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D11A7F-F890-41FD-8307-5B18073B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83412-FA37-4901-831E-2D0E6A3A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C498E1-D668-4409-9926-DE90381C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ECA299-8201-40DF-89CB-8786ED0F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3340C7-E601-4FE8-8C0B-0786416A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59701A-0A7F-4DA8-B05E-5E1A387F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F014F8-B58E-4D31-BBBB-2011B490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FDF92C-03E8-41A6-A634-72457981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DA46E9-FA2D-4EFD-A916-C29D03B1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7C6ABF-3278-41A5-9CD2-94F360DE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F89647-B433-4F6B-B6F5-108F3A8D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1F714E-EC7F-4A2A-A9C7-F9F012CE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E19C7-9016-40DD-B4EC-8BE5F990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4A14EA-0275-4E4B-85B8-EB843B1E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74D5A3-100C-45EF-BD31-CFDA76BD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6495EF-E626-4DB2-9A15-7019303F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CBF999-7A84-4E3F-9F25-BE2317C8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51568B-62A1-4D83-87D0-27B50D0E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FF89D8-8431-4E98-A904-0E26701E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087F0D-FD44-4544-8E30-308768E2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79BA14-E972-4199-8494-A9ECEAE4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D64DF-DB2A-4258-BCE9-FBD5A728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3B8E9-272A-4B8D-A70C-FA81A40E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υποσέλιδο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6F57-D2AB-4D22-9405-9D33A729BA98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ημερομηνία/ώρα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ftr" idx="27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6642-A395-41D4-9400-8E994B3E59F8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ftr" idx="30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6C37-2332-4E43-96AC-BC54371DA61C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ftr" idx="33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9561-B48E-4EA7-AD95-32BD1C78A6B4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ftr" idx="36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BB3C-8303-4A6A-A08D-AFE07EDC5C3E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dt" idx="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ftr" idx="39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14FA-D02F-4718-9AAB-F360A109DF89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42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2012-8BB3-4E9A-8500-D4AE2108737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dt" idx="43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44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B43F-BECF-4F2B-8E87-9453856F4DC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dt" idx="45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Num" idx="46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C4C4-DA03-4DEF-8448-19A5E820F0B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dt" idx="47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sldNum" idx="48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8C4C-017A-408D-9892-E17D20EB6C4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dt" idx="49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Num" idx="50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1269-0D6A-487C-95B3-E3F00840A30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dt" idx="51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B497-DD7B-49FE-8AD7-6F475C95F49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ημερομηνία/ώρα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sldNum" idx="52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D38D-AE09-423E-BEF7-61B9275F12D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dt" idx="53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54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0057-1EA5-4875-BE45-03FE8CA4404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dt" idx="55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sldNum" idx="56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B234-2E19-4EDF-9BC6-21F8601EBAB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dt" idx="57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sldNum" idx="58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FEEE-61A0-4203-9234-840A6697855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dt" idx="59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sldNum" idx="60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2C90-2C6C-4561-81E3-9B1D4ECDD42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dt" idx="61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sldNum" idx="62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7E85-E3E8-49A8-B8F5-72DEB4D4FAE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dt" idx="63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sldNum" idx="64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1CD9-1EBF-4F08-8938-5FA70A0BB70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dt" idx="65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95CB-F029-41AA-BBE8-0B653DF78B3F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9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B882-A64A-45B4-80CF-8C4F38DE4ACF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2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2D36-5711-4A9C-B0AE-9C063F5D6472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5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4932-FA48-4E4B-A800-4E11CEE88210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8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65BB-98D0-4FBE-9D67-59100B5DB85C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21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F946-1D3E-407A-A239-830DE1DC7BD3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24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ADFE-BB01-4631-BD54-62B98C627E1F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13 - Ορθογώνιο"/>
          <p:cNvSpPr/>
          <p:nvPr/>
        </p:nvSpPr>
        <p:spPr>
          <a:xfrm>
            <a:off x="900000" y="2997360"/>
            <a:ext cx="72709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Δια-ιδρυματικό – Διατμηματικό Πρόγραμμα Μεταπτυχιακών Σπουδ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14 - Ορθογώνιο"/>
          <p:cNvSpPr/>
          <p:nvPr/>
        </p:nvSpPr>
        <p:spPr>
          <a:xfrm>
            <a:off x="357120" y="4437000"/>
            <a:ext cx="8286840" cy="14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Εξειδίκευση στις Τ.Π.Ε. και Ειδική Αγωγή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Ψυχοπαιδαγωγική της Ένταξ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15 - Ορθογώνιο"/>
          <p:cNvSpPr/>
          <p:nvPr/>
        </p:nvSpPr>
        <p:spPr>
          <a:xfrm>
            <a:off x="826920" y="5805360"/>
            <a:ext cx="73440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Picture 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69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890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1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1066" name="12 - Εικόνα" descr=""/>
          <p:cNvPicPr/>
          <p:nvPr/>
        </p:nvPicPr>
        <p:blipFill>
          <a:blip r:embed="rId4"/>
          <a:stretch/>
        </p:blipFill>
        <p:spPr>
          <a:xfrm>
            <a:off x="5003640" y="0"/>
            <a:ext cx="1119240" cy="12193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3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78920" y="772920"/>
            <a:ext cx="84963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Οι Wang, Haertel &amp; Walberg (1993)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παρουσίασαν τη σπουδαιότητ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του Classroom Management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μέσα από μία περιεκτική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βιβλιογραφική ανασκόπηση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Προέκυψε, λοιπόν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ένας κατάλογος με 228 παράγοντ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που επηρεάζουν την επίδοση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των μαθητώ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15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151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4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5" name="Rectangle 1"/>
          <p:cNvSpPr/>
          <p:nvPr/>
        </p:nvSpPr>
        <p:spPr>
          <a:xfrm>
            <a:off x="1042920" y="1989000"/>
            <a:ext cx="78454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1" descr=""/>
          <p:cNvPicPr/>
          <p:nvPr/>
        </p:nvPicPr>
        <p:blipFill>
          <a:blip r:embed="rId4"/>
          <a:stretch/>
        </p:blipFill>
        <p:spPr>
          <a:xfrm>
            <a:off x="5580000" y="981000"/>
            <a:ext cx="356400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15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160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3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Rectangle 1"/>
          <p:cNvSpPr/>
          <p:nvPr/>
        </p:nvSpPr>
        <p:spPr>
          <a:xfrm>
            <a:off x="1042920" y="1989000"/>
            <a:ext cx="78454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sp>
        <p:nvSpPr>
          <p:cNvPr id="1166" name="Ορθογώνιο 1"/>
          <p:cNvSpPr/>
          <p:nvPr/>
        </p:nvSpPr>
        <p:spPr>
          <a:xfrm>
            <a:off x="33480" y="2271600"/>
            <a:ext cx="914220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Έπειτα από 134 μετα-αναλύσει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κατέληξαν στο συμπέρασμ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πως η παράμετρος της οργάνωσης και διοίκηση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ίχε τη μεγαλύτερη επίδραση στην επίδοση των μαθητώ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Συνεπώς, αποτελεί την απαραίτητη προϋπόθεση για τη δημιουργία ενός παραγωγικού εκπαιδευτικού περιβάλλοντο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7" name="Picture 2" descr=""/>
          <p:cNvPicPr/>
          <p:nvPr/>
        </p:nvPicPr>
        <p:blipFill>
          <a:blip r:embed="rId4"/>
          <a:stretch/>
        </p:blipFill>
        <p:spPr>
          <a:xfrm>
            <a:off x="4983120" y="1052640"/>
            <a:ext cx="3927600" cy="25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0" y="187200"/>
            <a:ext cx="93232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Παράλληλα και συνδυαστικ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το παιδαγωγικό κλίμ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που διαμορφώνεται και επικρατεί στην σχολική τά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πηρεάζει σε μεγάλο βαθμό την ψυχική διάθεση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την συμπεριφορά και των ενθουσιασμό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τόσο των εκπαιδευτικών όσο και των μαθητών για την αποτελεσματικότερη εκτέλεση της εργασίας του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17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171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4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Rectangle 1"/>
          <p:cNvSpPr/>
          <p:nvPr/>
        </p:nvSpPr>
        <p:spPr>
          <a:xfrm>
            <a:off x="1042920" y="1989000"/>
            <a:ext cx="78454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1" descr=""/>
          <p:cNvPicPr/>
          <p:nvPr/>
        </p:nvPicPr>
        <p:blipFill>
          <a:blip r:embed="rId4"/>
          <a:stretch/>
        </p:blipFill>
        <p:spPr>
          <a:xfrm>
            <a:off x="3095640" y="3786120"/>
            <a:ext cx="3738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34560" y="641520"/>
            <a:ext cx="9109080" cy="54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Επισημαίνεται πως  η οργάνωση και η διεύθυνση της σχολικής αίθουσας είναι μια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συνεχής εξελισσόμενη διαδικασία.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Λίγοι εκπαιδευτικοί φτάνουν στην τελειότητα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κατά τη διάρκεια της καριέρας τους, 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αν και αποτελεί θεμέλιο μια επιτυχημένης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καριέρας στον εκπαιδευτικό χώρ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18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181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4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Rectangle 1"/>
          <p:cNvSpPr/>
          <p:nvPr/>
        </p:nvSpPr>
        <p:spPr>
          <a:xfrm>
            <a:off x="1042920" y="1989000"/>
            <a:ext cx="78454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3" descr=""/>
          <p:cNvPicPr/>
          <p:nvPr/>
        </p:nvPicPr>
        <p:blipFill>
          <a:blip r:embed="rId4"/>
          <a:stretch/>
        </p:blipFill>
        <p:spPr>
          <a:xfrm>
            <a:off x="3110040" y="2421000"/>
            <a:ext cx="292392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28760" y="1392120"/>
            <a:ext cx="8030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Η Σχολική Τάξη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99"/>
                </a:solidFill>
                <a:latin typeface="Calibri"/>
              </a:rPr>
              <a:t>ΕΙΣΗΓΗΤΗΣ: Γούπος Θεόδωρος,  δρ. Παιδαγωγικών,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19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191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5" name="Rectangle 1"/>
          <p:cNvSpPr/>
          <p:nvPr/>
        </p:nvSpPr>
        <p:spPr>
          <a:xfrm>
            <a:off x="1042920" y="1989000"/>
            <a:ext cx="78454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14 - Ορθογώνιο"/>
          <p:cNvSpPr/>
          <p:nvPr/>
        </p:nvSpPr>
        <p:spPr>
          <a:xfrm>
            <a:off x="395280" y="3573360"/>
            <a:ext cx="8136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10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1200" name="12 - Εικόνα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1760"/>
          </a:xfrm>
          <a:prstGeom prst="rect">
            <a:avLst/>
          </a:prstGeom>
          <a:ln w="0">
            <a:noFill/>
          </a:ln>
        </p:spPr>
      </p:pic>
      <p:sp>
        <p:nvSpPr>
          <p:cNvPr id="1201" name="5 - Ορθογώνιο"/>
          <p:cNvSpPr/>
          <p:nvPr/>
        </p:nvSpPr>
        <p:spPr>
          <a:xfrm>
            <a:off x="611280" y="5950080"/>
            <a:ext cx="8064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6 - Ορθογώνιο"/>
          <p:cNvSpPr/>
          <p:nvPr/>
        </p:nvSpPr>
        <p:spPr>
          <a:xfrm>
            <a:off x="179280" y="5084640"/>
            <a:ext cx="8783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Η Σχολική Τάξη</a:t>
            </a:r>
            <a:br>
              <a:rPr sz="2000"/>
            </a:br>
            <a:br>
              <a:rPr sz="2000"/>
            </a:br>
            <a:r>
              <a:rPr b="1" lang="el-GR" sz="2000" spc="-1" strike="noStrike">
                <a:solidFill>
                  <a:srgbClr val="000099"/>
                </a:solidFill>
                <a:latin typeface="Calibri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07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071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4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Rectangle 1"/>
          <p:cNvSpPr/>
          <p:nvPr/>
        </p:nvSpPr>
        <p:spPr>
          <a:xfrm>
            <a:off x="1042920" y="1989000"/>
            <a:ext cx="78454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-541440" y="773280"/>
            <a:ext cx="9864720" cy="23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Υποσυστήματα του σχολικού χώρου είναι: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η σχολική τάξη αλλά και η σχολική αυλή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07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080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3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Rectangle 1"/>
          <p:cNvSpPr/>
          <p:nvPr/>
        </p:nvSpPr>
        <p:spPr>
          <a:xfrm>
            <a:off x="1042920" y="1989000"/>
            <a:ext cx="78454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https://previews.123rf.com/images/tatianastulbo/tatianastulbo1610/tatianastulbo161000139/66828201-school-banners-teachers-by-blackboard-with-pupils-in-the-classroom-school-yard-and-dinner-hall-kids-.jpg"/>
          <p:cNvPicPr/>
          <p:nvPr/>
        </p:nvPicPr>
        <p:blipFill>
          <a:blip r:embed="rId4"/>
          <a:srcRect l="0" t="-34369" r="0" b="34378"/>
          <a:stretch/>
        </p:blipFill>
        <p:spPr>
          <a:xfrm>
            <a:off x="2050920" y="2786040"/>
            <a:ext cx="5040360" cy="30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14000" y="1212840"/>
            <a:ext cx="8351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Κάθε σχολική τάξη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αποτελεί μια μικρή και αυτόνομη σχετικά μονάδα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08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090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3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Rectangle 1"/>
          <p:cNvSpPr/>
          <p:nvPr/>
        </p:nvSpPr>
        <p:spPr>
          <a:xfrm>
            <a:off x="1042920" y="1989000"/>
            <a:ext cx="78454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sp>
        <p:nvSpPr>
          <p:cNvPr id="1096" name="Ορθογώνιο 1"/>
          <p:cNvSpPr/>
          <p:nvPr/>
        </p:nvSpPr>
        <p:spPr>
          <a:xfrm>
            <a:off x="68400" y="2001960"/>
            <a:ext cx="831996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Περιλαμβάνει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την υλικοτεχνική υποδομή της αίθουσα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τη χωροταξικ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διάταξη των θρανίων και των επίπλω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την ομάδα των μαθητ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τον υπεύθυνο εκπαιδευτικό της τάξη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κα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τις μεταξύ τους αλληλεπιδράσει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στο πλαίσιο της διδασκαλί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7" name="Picture 4" descr="http://cobbcast.cobbk12.org/wp-content/uploads/2010/08/firstday10_kemp_soley.jpg"/>
          <p:cNvPicPr/>
          <p:nvPr/>
        </p:nvPicPr>
        <p:blipFill>
          <a:blip r:embed="rId4"/>
          <a:stretch/>
        </p:blipFill>
        <p:spPr>
          <a:xfrm>
            <a:off x="5184720" y="3213000"/>
            <a:ext cx="3890880" cy="25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774720" y="511200"/>
            <a:ext cx="75945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Η οργάνωση και η διεύθυνση της σχολικής τάξη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πηρεάζει το εκπαιδευτικό έργο αφού διαδραματίζεται εντός του πλαισίου της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πιστημονικά ο όρος είναι γνωστός ως «Οργάνωση &amp; Διοίκηση της Σχολικής Τάξης»  (</a:t>
            </a:r>
            <a:r>
              <a:rPr b="0" i="1" lang="el-GR" sz="2800" spc="-1" strike="noStrike">
                <a:solidFill>
                  <a:srgbClr val="000000"/>
                </a:solidFill>
                <a:latin typeface="Calibri"/>
              </a:rPr>
              <a:t>Classroom Managem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10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101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4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Rectangle 1"/>
          <p:cNvSpPr/>
          <p:nvPr/>
        </p:nvSpPr>
        <p:spPr>
          <a:xfrm>
            <a:off x="1042920" y="1989000"/>
            <a:ext cx="78454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2" descr="https://www.germantownacademy.net/uploaded/images/Blogs/Crafted/slide-13_orig.jpg"/>
          <p:cNvPicPr/>
          <p:nvPr/>
        </p:nvPicPr>
        <p:blipFill>
          <a:blip r:embed="rId4"/>
          <a:stretch/>
        </p:blipFill>
        <p:spPr>
          <a:xfrm>
            <a:off x="3276720" y="2487600"/>
            <a:ext cx="2663640" cy="19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4" descr="http://tlceducationalsolutions.com/wp-content/uploads/2016/08/Class-Mgmt-Wordle.png"/>
          <p:cNvPicPr/>
          <p:nvPr/>
        </p:nvPicPr>
        <p:blipFill>
          <a:blip r:embed="rId1"/>
          <a:stretch/>
        </p:blipFill>
        <p:spPr>
          <a:xfrm>
            <a:off x="4583160" y="1150920"/>
            <a:ext cx="4141800" cy="1555920"/>
          </a:xfrm>
          <a:prstGeom prst="rect">
            <a:avLst/>
          </a:prstGeom>
          <a:ln w="0">
            <a:noFill/>
          </a:ln>
        </p:spPr>
      </p:pic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19160" y="1348920"/>
            <a:ext cx="475920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Πρόκειται για μια σειρά  από αναγκαίες ενέργειε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και δραστηριότητες των εκπαιδευτικώ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ια τη δημιουργία και τη διατήρηση του μαθησιακού περιβάλλοντος μέσα στο οποίο επιτυγχάνεται η μάθηση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11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112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3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5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Rectangle 1"/>
          <p:cNvSpPr/>
          <p:nvPr/>
        </p:nvSpPr>
        <p:spPr>
          <a:xfrm>
            <a:off x="395280" y="1916280"/>
            <a:ext cx="84931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9 - Εικόνα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2" descr="http://www.fresh-education.gr/wp-content/uploads/2020/07/eclass-300x149.jpg"/>
          <p:cNvPicPr/>
          <p:nvPr/>
        </p:nvPicPr>
        <p:blipFill>
          <a:blip r:embed="rId5"/>
          <a:srcRect l="0" t="0" r="0" b="14967"/>
          <a:stretch/>
        </p:blipFill>
        <p:spPr>
          <a:xfrm>
            <a:off x="5075280" y="2925720"/>
            <a:ext cx="3813120" cy="28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64216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Κάποιοι ερευνητές (Ματσαγγούρας, 2008) συγκαταλέγουν την Οργάνωση &amp; Διοίκηση της Σχολικής Τάξης στην επιστήμη της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Διδακτικής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που ασχολείται με την εξέταση της τάξης ως χώρο, ως κοινωνική ομάδ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και ως τρόπο άσκησης της σχολικής πειθαρχία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12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122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5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Rectangle 1"/>
          <p:cNvSpPr/>
          <p:nvPr/>
        </p:nvSpPr>
        <p:spPr>
          <a:xfrm>
            <a:off x="395280" y="1916280"/>
            <a:ext cx="84931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50920" y="1228320"/>
            <a:ext cx="52545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Ο πιο αποδεκτός ορισμός της «Οργάνωσης &amp; Διοίκησης της Σχολικής Τάξης» από την επιστημονική/ερευνητική κοινότητα φαίνεται να είναι αυτός των Wong &amp; Wong (1991) και συγκαταλέγεται στον κλάδο της Μεθοδολογίας της Διδακτική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13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131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4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5" name="Rectangle 1"/>
          <p:cNvSpPr/>
          <p:nvPr/>
        </p:nvSpPr>
        <p:spPr>
          <a:xfrm>
            <a:off x="1042920" y="1989000"/>
            <a:ext cx="78454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4"/>
          <a:stretch/>
        </p:blipFill>
        <p:spPr>
          <a:xfrm>
            <a:off x="5451480" y="1138320"/>
            <a:ext cx="3692520" cy="41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73120" y="433080"/>
            <a:ext cx="8570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Σύμφωνα, λοιπόν με τους Wong &amp; Wong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η «Οργάνωση &amp; Διοίκηση της Σχολικής Τάξης» αντιπροσωπεύει όλες τις ενέργειες του εκπαιδευτικού για να οργανώσει τους μαθητές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τον χώρο, τον χρόνο και το υλικό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έτσι ώστε ο διδακτικός σχεδιασμό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και η εκπαίδευση των μαθητών να επιτευχθού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14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141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4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Rectangle 1"/>
          <p:cNvSpPr/>
          <p:nvPr/>
        </p:nvSpPr>
        <p:spPr>
          <a:xfrm>
            <a:off x="1042920" y="1989000"/>
            <a:ext cx="78454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4"/>
          <a:stretch/>
        </p:blipFill>
        <p:spPr>
          <a:xfrm>
            <a:off x="2195640" y="3975120"/>
            <a:ext cx="5184720" cy="177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2T17:32:59Z</dcterms:created>
  <dc:creator>Dimitra</dc:creator>
  <dc:description/>
  <dc:language>en-US</dc:language>
  <cp:lastModifiedBy>Admin</cp:lastModifiedBy>
  <dcterms:modified xsi:type="dcterms:W3CDTF">2025-10-16T10:41:18Z</dcterms:modified>
  <cp:revision>19</cp:revision>
  <dc:subject/>
  <dc:title>Παρουσίαση του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Προβολή στην οθόνη (4:3)</vt:lpwstr>
  </property>
  <property fmtid="{D5CDD505-2E9C-101B-9397-08002B2CF9AE}" pid="4" name="Slides">
    <vt:r8>15</vt:r8>
  </property>
</Properties>
</file>